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105.jpeg" ContentType="image/jpeg"/>
  <Override PartName="/ppt/media/image85.jpeg" ContentType="image/jpeg"/>
  <Override PartName="/ppt/media/image61.png" ContentType="image/png"/>
  <Override PartName="/ppt/media/image5.jpeg" ContentType="image/jpeg"/>
  <Override PartName="/ppt/media/image4.png" ContentType="image/png"/>
  <Override PartName="/ppt/media/image7.jpeg" ContentType="image/jpeg"/>
  <Override PartName="/ppt/media/image87.jpeg" ContentType="image/jpeg"/>
  <Override PartName="/ppt/media/image28.jpeg" ContentType="image/jpeg"/>
  <Override PartName="/ppt/media/image11.jpeg" ContentType="image/jpeg"/>
  <Override PartName="/ppt/media/image107.jpeg" ContentType="image/jpeg"/>
  <Override PartName="/ppt/media/image51.jpeg" ContentType="image/jpeg"/>
  <Override PartName="/ppt/media/image130.jpeg" ContentType="image/jpeg"/>
  <Override PartName="/ppt/media/image9.jpeg" ContentType="image/jpeg"/>
  <Override PartName="/ppt/media/image106.jpeg" ContentType="image/jpeg"/>
  <Override PartName="/ppt/media/image86.jpeg" ContentType="image/jpeg"/>
  <Override PartName="/ppt/media/image27.jpeg" ContentType="image/jpeg"/>
  <Override PartName="/ppt/media/image36.jpeg" ContentType="image/jpeg"/>
  <Override PartName="/ppt/media/image35.jpeg" ContentType="image/jpeg"/>
  <Override PartName="/ppt/media/image112.png" ContentType="image/png"/>
  <Override PartName="/ppt/media/image30.jpeg" ContentType="image/jpeg"/>
  <Override PartName="/ppt/media/image31.jpeg" ContentType="image/jpeg"/>
  <Override PartName="/ppt/media/image137.png" ContentType="image/png"/>
  <Override PartName="/ppt/media/image32.jpeg" ContentType="image/jpeg"/>
  <Override PartName="/ppt/media/image33.jpeg" ContentType="image/jpeg"/>
  <Override PartName="/ppt/media/image142.png" ContentType="image/png"/>
  <Override PartName="/ppt/media/image34.jpeg" ContentType="image/jpeg"/>
  <Override PartName="/ppt/media/image133.jpeg" ContentType="image/jpeg"/>
  <Override PartName="/ppt/media/image38.jpeg" ContentType="image/jpeg"/>
  <Override PartName="/ppt/media/image129.jpeg" ContentType="image/jpeg"/>
  <Override PartName="/ppt/media/image55.jpeg" ContentType="image/jpeg"/>
  <Override PartName="/ppt/media/image53.jpeg" ContentType="image/jpeg"/>
  <Override PartName="/ppt/media/image132.jpeg" ContentType="image/jpeg"/>
  <Override PartName="/ppt/media/image138.png" ContentType="image/png"/>
  <Override PartName="/ppt/media/image3.jpeg" ContentType="image/jpeg"/>
  <Override PartName="/ppt/media/image140.png" ContentType="image/png"/>
  <Override PartName="/ppt/media/image69.jpeg" ContentType="image/jpeg"/>
  <Override PartName="/ppt/media/image57.jpeg" ContentType="image/jpeg"/>
  <Override PartName="/ppt/media/image136.jpeg" ContentType="image/jpeg"/>
  <Override PartName="/ppt/media/image131.jpeg" ContentType="image/jpeg"/>
  <Override PartName="/ppt/media/image52.jpeg" ContentType="image/jpeg"/>
  <Override PartName="/ppt/media/image1.png" ContentType="image/png"/>
  <Override PartName="/ppt/media/image139.png" ContentType="image/png"/>
  <Override PartName="/ppt/media/image49.jpeg" ContentType="image/jpeg"/>
  <Override PartName="/ppt/media/image56.jpeg" ContentType="image/jpeg"/>
  <Override PartName="/ppt/media/image135.jpeg" ContentType="image/jpeg"/>
  <Override PartName="/ppt/media/image50.jpeg" ContentType="image/jpeg"/>
  <Override PartName="/ppt/media/image141.jpeg" ContentType="image/jpeg"/>
  <Override PartName="/ppt/media/image59.jpeg" ContentType="image/jpeg"/>
  <Override PartName="/ppt/media/image42.jpeg" ContentType="image/jpeg"/>
  <Override PartName="/ppt/media/image54.jpeg" ContentType="image/jpeg"/>
  <Override PartName="/ppt/media/image18.png" ContentType="image/png"/>
  <Override PartName="/ppt/media/image58.jpeg" ContentType="image/jpeg"/>
  <Override PartName="/ppt/media/image6.jpeg" ContentType="image/jpeg"/>
  <Override PartName="/ppt/media/image128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29.jpeg" ContentType="image/jpeg"/>
  <Override PartName="/ppt/media/image10.png" ContentType="image/png"/>
  <Override PartName="/ppt/media/image12.jpeg" ContentType="image/jpeg"/>
  <Override PartName="/ppt/media/image88.jpeg" ContentType="image/jpeg"/>
  <Override PartName="/ppt/media/image108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7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17.jpeg" ContentType="image/jpeg"/>
  <Override PartName="/ppt/media/image60.png" ContentType="image/png"/>
  <Override PartName="/ppt/media/image90.jpeg" ContentType="image/jpeg"/>
  <Override PartName="/ppt/media/image110.jpeg" ContentType="image/jpeg"/>
  <Override PartName="/ppt/media/image97.jpeg" ContentType="image/jpeg"/>
  <Override PartName="/ppt/media/image62.png" ContentType="image/png"/>
  <Override PartName="/ppt/media/image96.jpeg" ContentType="image/jpeg"/>
  <Override PartName="/ppt/media/image134.jpeg" ContentType="image/jpeg"/>
  <Override PartName="/ppt/media/image64.png" ContentType="image/png"/>
  <Override PartName="/ppt/media/image77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0.jpeg" ContentType="image/jpeg"/>
  <Override PartName="/ppt/media/image63.png" ContentType="image/pn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78.jpeg" ContentType="image/jpeg"/>
  <Override PartName="/ppt/media/image79.jpeg" ContentType="image/jpeg"/>
  <Override PartName="/ppt/media/image89.jpeg" ContentType="image/jpeg"/>
  <Override PartName="/ppt/media/image91.jpeg" ContentType="image/jpeg"/>
  <Override PartName="/ppt/media/image111.jpeg" ContentType="image/jpeg"/>
  <Override PartName="/ppt/media/image92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720263" cy="64801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8AD-22DA-45C2-8AD6-F8021F8A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6FF-02BF-4176-8718-890B7995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8B3-31D2-4A68-81B7-0A7278CE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1B1-A5A8-443C-B106-C47B3303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F93-454C-40F7-B479-E1D745D9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545-B73D-467D-9D03-2FA39525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92A-C8A3-415F-9F15-2CE22DC4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3EB-932F-47D4-A0DC-91098984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61E-2E54-41A6-8FEE-9804808B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FC5-889E-4DBA-B197-F03AD37F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31E-C0A3-48CD-BF1B-FD8A8426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F27-0014-42C3-8B9F-4CD9E5D6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3358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8520" y="6324480"/>
            <a:ext cx="22622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200" spc="-1" strike="noStrike">
                <a:solidFill>
                  <a:srgbClr val="99999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99999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2800" y="6324480"/>
            <a:ext cx="30798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200" spc="-1" strike="noStrike">
                <a:solidFill>
                  <a:srgbClr val="99999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999999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2240" y="6324480"/>
            <a:ext cx="22622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200" spc="-1" strike="noStrike">
                <a:solidFill>
                  <a:srgbClr val="9999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DE8C9-E7E7-4CD9-9E7C-F62F9D3024AD}" type="slidenum">
              <a:rPr b="0" lang="fi-FI" sz="1200" spc="-1" strike="noStrike">
                <a:solidFill>
                  <a:srgbClr val="99999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pn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image" Target="../media/image80.jpeg"/><Relationship Id="rId7" Type="http://schemas.openxmlformats.org/officeDocument/2006/relationships/image" Target="../media/image81.jpe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image" Target="../media/image92.jpeg"/><Relationship Id="rId9" Type="http://schemas.openxmlformats.org/officeDocument/2006/relationships/image" Target="../media/image93.jpeg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5.jpeg"/><Relationship Id="rId3" Type="http://schemas.openxmlformats.org/officeDocument/2006/relationships/image" Target="../media/image96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9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5.jpeg"/><Relationship Id="rId3" Type="http://schemas.openxmlformats.org/officeDocument/2006/relationships/image" Target="../media/image106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8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image" Target="../media/image111.jpeg"/><Relationship Id="rId5" Type="http://schemas.openxmlformats.org/officeDocument/2006/relationships/image" Target="../media/image112.png"/><Relationship Id="rId6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3.jpeg"/><Relationship Id="rId3" Type="http://schemas.openxmlformats.org/officeDocument/2006/relationships/image" Target="../media/image114.jpeg"/><Relationship Id="rId4" Type="http://schemas.openxmlformats.org/officeDocument/2006/relationships/image" Target="../media/image115.jpe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6.jpeg"/><Relationship Id="rId3" Type="http://schemas.openxmlformats.org/officeDocument/2006/relationships/image" Target="../media/image117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3.jpeg"/><Relationship Id="rId3" Type="http://schemas.openxmlformats.org/officeDocument/2006/relationships/image" Target="../media/image124.jpe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5.jpeg"/><Relationship Id="rId3" Type="http://schemas.openxmlformats.org/officeDocument/2006/relationships/image" Target="../media/image126.jpe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image" Target="../media/image129.jpeg"/><Relationship Id="rId5" Type="http://schemas.openxmlformats.org/officeDocument/2006/relationships/image" Target="../media/image130.jpeg"/><Relationship Id="rId6" Type="http://schemas.openxmlformats.org/officeDocument/2006/relationships/image" Target="../media/image131.jpeg"/><Relationship Id="rId7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2.jpeg"/><Relationship Id="rId3" Type="http://schemas.openxmlformats.org/officeDocument/2006/relationships/image" Target="../media/image13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4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5.jpe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6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7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8.png"/><Relationship Id="rId3" Type="http://schemas.openxmlformats.org/officeDocument/2006/relationships/image" Target="../media/image139.png"/><Relationship Id="rId4" Type="http://schemas.openxmlformats.org/officeDocument/2006/relationships/image" Target="../media/image140.png"/><Relationship Id="rId5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-360" y="179280"/>
            <a:ext cx="9720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600" spc="-1" strike="noStrike">
                <a:solidFill>
                  <a:srgbClr val="660066"/>
                </a:solidFill>
                <a:latin typeface="Times New Roman"/>
              </a:rPr>
              <a:t>CUISINE </a:t>
            </a:r>
            <a:endParaRPr b="0" lang="en-US" sz="66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600" spc="-1" strike="noStrike">
                <a:solidFill>
                  <a:srgbClr val="660066"/>
                </a:solidFill>
                <a:latin typeface="Times New Roman"/>
              </a:rPr>
              <a:t>FROM   DIFFERENT COUNTRIES</a:t>
            </a:r>
            <a:endParaRPr b="0" lang="en-US" sz="6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85640" y="360000"/>
            <a:ext cx="874728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n Boxing Day they eat the left overs fro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ristmas ( Christmas pudding, stuffed or roas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urkey, roast ham, cranberry sauce, cherries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trawberries etc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99280" y="2441520"/>
            <a:ext cx="2238480" cy="223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060720" y="3240000"/>
            <a:ext cx="3419280" cy="251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07880" y="3209760"/>
            <a:ext cx="2111400" cy="20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747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000" spc="-1" strike="noStrike">
                <a:solidFill>
                  <a:srgbClr val="e6e6e6"/>
                </a:solidFill>
                <a:latin typeface="Times New Roman"/>
              </a:rPr>
              <a:t>CHINA</a:t>
            </a:r>
            <a:endParaRPr b="1" lang="en-US" sz="60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260360"/>
            <a:ext cx="97203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ood seems to be the core of all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ignificantevents ( weddings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irths... 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me of the original food products from Chin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ice, (constitutes the prop of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nese diet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659640" y="900000"/>
            <a:ext cx="2700360" cy="197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300720" y="4319640"/>
            <a:ext cx="270036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539280"/>
            <a:ext cx="972036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Soy bean, ( constitutes an important part of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nese diet. Both the milk and the sauce are extract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o be used in seasoning. The soy bea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hoots are used to aceompany man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nese dishes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Tea, ( has it´s roots in China. Te i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national drink of Chin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20000" y="1800360"/>
            <a:ext cx="2340000" cy="1800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659640" y="4319640"/>
            <a:ext cx="2700360" cy="1893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9280" y="360000"/>
            <a:ext cx="953928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Chinese ingredient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principal ingredients used in Chinese gastronom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o season are garlic, ginger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nese parsley or corriader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nd green onion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Sauces and Chinese spice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ya sauce, oyster sauce, five spic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owder, rice vinegar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580000" y="1619280"/>
            <a:ext cx="1354320" cy="126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380360" y="1619280"/>
            <a:ext cx="1260360" cy="1079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580000" y="3060720"/>
            <a:ext cx="1619280" cy="1068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559640" y="2890800"/>
            <a:ext cx="1619280" cy="1247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659640" y="4500720"/>
            <a:ext cx="2160360" cy="178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539280"/>
            <a:ext cx="972036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Chinese vegetable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ok choy, Chinese aubergines, Chinese cabbage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nese broccoli, soy bean shoots, Chinese mushrooms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amboo shoots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040360" y="5219640"/>
            <a:ext cx="1439640" cy="1068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240000" y="1800360"/>
            <a:ext cx="1440000" cy="1260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105680" y="3790800"/>
            <a:ext cx="1535040" cy="1247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300720" y="1800360"/>
            <a:ext cx="1440000" cy="1260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20720" y="1800360"/>
            <a:ext cx="1440000" cy="107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4226040" y="3790800"/>
            <a:ext cx="1535040" cy="1068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1346040" y="3780000"/>
            <a:ext cx="1354320" cy="107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720720"/>
            <a:ext cx="9720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ther basic ingredient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astry for spring rolls, tofu or soya cheese, noodles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ice noodl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79640" y="2700360"/>
            <a:ext cx="2340000" cy="1724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319640" y="2700360"/>
            <a:ext cx="1979640" cy="1608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979640" y="4332240"/>
            <a:ext cx="2340000" cy="1608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319640" y="4319640"/>
            <a:ext cx="197964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360" y="360000"/>
            <a:ext cx="1008072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COOKING  EQUIPMENT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A wok is a practical utensil often us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or frying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Cleavers and cutting blocks or chopping tables ar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xcellent for cutting, mincing, crumbling, griding an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rushing any type of food. Sometimes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knives have a hole in the front par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0360" y="1079640"/>
            <a:ext cx="2700360" cy="143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659640" y="4680000"/>
            <a:ext cx="23400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patulas are often used for cooking and mix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ngredients, ladies for frying ( excellent to lift food ou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f boiling oil ), long chopsticks for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ooking ( ideal to sauté, fry, beat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ggs, mix noodles and stir ingredients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Bamboo or metal steamers ( to cook in steam ).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avourite food for eteam cooking is fish, meat or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eafood. One of the most popular dish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s skeamed fish with ginger, steamed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20000" y="1619280"/>
            <a:ext cx="238608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360" y="360000"/>
            <a:ext cx="1008072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rab, and of course the famous dim sums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raditional steamers are made from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amboo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main methods of cooking are frying, roasting, boil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nd stir frying, which involves stirring all the ingredient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ogether that have been cut into small pieces, over a ve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high fire, using very little oil. Cook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ime is very short, five minut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199280" y="360360"/>
            <a:ext cx="234000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720720"/>
            <a:ext cx="9720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 balanced Chinese food consists of two element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The fan element from starches and cereals ( rice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noodles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The tsai element that contains meat and vegetabl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19280" y="3419640"/>
            <a:ext cx="378000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9280" y="720720"/>
            <a:ext cx="93600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e are going to do a tour of some countries of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orld to know its gastronomy and its popular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 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holiday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79640" y="2519280"/>
            <a:ext cx="5040000" cy="3287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179640" y="179280"/>
            <a:ext cx="9899640" cy="62215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TABLE  UTENSIL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 typical table serving include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A bowl of ri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Chopstick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A porcelan spoon of soup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A plate to put under the bowl of rice used for bon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nd discarded foo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Small plate for sauc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Cup of te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9640" y="36036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80000" y="4365720"/>
            <a:ext cx="197964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HOW  A  CHINESE  MEAL  IS 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SERVED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 typical Chinese meal normally consists of variou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”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trong plates”. Usually all the plates are brought to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able  at the same time and everybody helps themselv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re are normally a couple of meat dishes, on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vegetable, fish or seafood dish and a soup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oiled rice is the central food and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ase for the individual chopsticks that are serve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esserts are not common. They normally finish off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ith fresh fruit. Fortune cookies are not from China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y are an American inventio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rozen drinks, sodas or juices are not served wit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ypical Chinese food. The Chinese enjoy a cup of tea o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up with their foo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0000" y="4319640"/>
            <a:ext cx="324000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TYPICAL  DISHE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ree delights fried ri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ork in sweet and sour sauce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on To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oo Yung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nese mushrooms in vinega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pring roll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ala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9640" y="36036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40000" y="4624560"/>
            <a:ext cx="2340000" cy="1495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020000" y="270036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720360" cy="65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rawns in ginge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op sue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ried banan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Quince balls in sesame and coconu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hark fin soup ( one of the most famous dishes of the region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im sum ( afternoon sandwiches that can be eat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ccompanied with green tea. The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an have various fillings: meat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cken, tofu, seaweed, vegetables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1618920" cy="1979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219640" y="179280"/>
            <a:ext cx="1979640" cy="1800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659640" y="4680000"/>
            <a:ext cx="2160360" cy="16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502400" y="179280"/>
            <a:ext cx="185760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TRADITIONAL  HOLIDAY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nese festivals are based on the lunar calendar. Of all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traditional Chinese holidays, the most important an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waited festival is the spring holiday, when the Chines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New Year is celebrate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me other important celebrations ar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Chinese New Year. This holiday takes a lot of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reparation. Here are some of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raditional dishes served on New Year´s da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459640" y="3240000"/>
            <a:ext cx="107964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720360" cy="672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eat balls for good luck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andarines for prosperit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pples for pea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weet rice cake for increased wealth every yea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ish for abundan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Vegetables and noodles for a long lif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cken for wealth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ustard leaves for a good crop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up to make this year better than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las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020000" y="259236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720360" cy="61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ranges for money and wealth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amaron for abundan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on holiday or Mid Autumn Festival. This is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night the moon is at it's brightest. Relatives and friend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eet to enjoy the moonlight and of course to eat mo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ak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0036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Lantern Festival. Celebrated on the 15 th of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irst lunar month which coincides with the first full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on of the year. A typical food for this day is stick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ice balls stuffed with sweets or mea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92280" y="2992320"/>
            <a:ext cx="3959280" cy="324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020000" y="270036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Dragon Boat Festival. It's a day full of emotion wit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teams competing to cross the finishing line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 tradition during this holiday is to eat Zongzi ( stick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ice wrapped in bamboo or cane leaves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part from these tradictional Chinese holidays, man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local festivals are celebrated like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estival of Bin Hills in Hong Kong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380360" y="234000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600360" y="2879640"/>
            <a:ext cx="2340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i-FI" sz="6000" spc="-1" strike="noStrike">
                <a:solidFill>
                  <a:srgbClr val="ffffff"/>
                </a:solidFill>
                <a:latin typeface="Times New Roman"/>
              </a:rPr>
              <a:t>NEW  ZEALAND</a:t>
            </a:r>
            <a:endParaRPr b="1" lang="en-US" sz="60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360" y="1203120"/>
            <a:ext cx="10080720" cy="5276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New Zealand has a notable Britis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nfluence regarding its foo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New Zealand, a country composed of islands, offers a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ide range of fish and seafood, all of qreat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quality, which influences in a decisive way its culina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radition, this doesn't mean that there aren't plenty of me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ishes, especially  lamb or  pork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80000" y="1079640"/>
            <a:ext cx="270036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5640" y="30312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000" spc="-1" strike="noStrike">
                <a:solidFill>
                  <a:srgbClr val="e6e6e6"/>
                </a:solidFill>
                <a:latin typeface="Times New Roman"/>
              </a:rPr>
              <a:t>BRAZIL</a:t>
            </a:r>
            <a:endParaRPr b="1" lang="en-US" sz="60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85640" y="360000"/>
            <a:ext cx="874728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gastronomy of Brazil has influences from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arts of  Europe, Africa and indigenous people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t is a rich and very varied diet, every region of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country, has its own regional dish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419640" y="4319640"/>
            <a:ext cx="287964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-360" y="360360"/>
            <a:ext cx="972036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TYPICAL PRODUCT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me typical products of Brazil are coffee, tobacco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ugar cane, fruits, etc.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9640" y="3419640"/>
            <a:ext cx="2880000" cy="216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780000" y="3060720"/>
            <a:ext cx="1979280" cy="3060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300720" y="2519280"/>
            <a:ext cx="333864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360" y="437760"/>
            <a:ext cx="972036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TYPICAL PLATE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national plate is the feijoada ( made from a base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f vegetables and pork ). It is served with boiled rice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vegetables and pieces of orang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native cooking offers elaborat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ish dishes, exotic fruits such a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ango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580000" y="179280"/>
            <a:ext cx="3240000" cy="1800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659640" y="5040360"/>
            <a:ext cx="2160360" cy="126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840360" y="3600360"/>
            <a:ext cx="2160720" cy="126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360" y="720720"/>
            <a:ext cx="9720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me local dishes of this area are: the tacacá not tucupi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wimming crabs or crabs, duck not tucupi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9640" y="2130480"/>
            <a:ext cx="2519640" cy="2549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419640" y="3735360"/>
            <a:ext cx="3240000" cy="2563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020000" y="2340000"/>
            <a:ext cx="234000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-360" y="539640"/>
            <a:ext cx="9720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food of the Bay, region of the north-east, i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nfluenced by African cooking, where there are dishe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garnished with fish and seafood, bananas, coconuts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oast peppers and oil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me dishes are: the vatapá, the cururú, the mosqueca..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93640" y="4140360"/>
            <a:ext cx="2646360" cy="1800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140360" y="3959280"/>
            <a:ext cx="265428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food in the South, it is represented by meats suc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s steak, grilled meat and barbequed, this food is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nfluenced by German and Italian cooking. Som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local dishes of this area are: barreado, steak etc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79640" y="3959280"/>
            <a:ext cx="1979640" cy="1619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140360" y="3633840"/>
            <a:ext cx="248904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center- west region, the food of Matto Grosso,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st traditional dishes are loin and ham of pork, ric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ith sua, roupa velha, etc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southeast region, food of Mines geris, is know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or the cheese it uses ( the queijo of Mines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300720" y="4243320"/>
            <a:ext cx="221940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060720" y="431964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53928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s for dessert it is necessary to mentiun fruits suc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s mango, bananas, guavas, cherimoyas, etc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ich ice cream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20720" y="2340000"/>
            <a:ext cx="2286000" cy="1800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619440" y="2398680"/>
            <a:ext cx="2610000" cy="1752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659640" y="2359080"/>
            <a:ext cx="2562120" cy="1781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20720" y="4376880"/>
            <a:ext cx="2160720" cy="1742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3728880" y="431964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6789600" y="4500720"/>
            <a:ext cx="239076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360" y="539280"/>
            <a:ext cx="972036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egarding desserts we have to mentiun brigadeiro, a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essert with chocolate and vanilla. Ambrosia, a pudd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ade with an egg base. There are other sweets like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guava sweet, papaya sweet and fig swee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09640" y="3240000"/>
            <a:ext cx="1890720" cy="1800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240000" y="409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7380360" y="306072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480000" y="4859280"/>
            <a:ext cx="216072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179640" y="-360"/>
            <a:ext cx="989964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national drink is caipirinha made with cachaca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( distilled unmatured brandy from sugar cane ), lim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juice, sugar and ice; beer ( golden and very good ); mat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( tasted like tea but it's aroma is similar to tobacco ) an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ruit shakes. We cannot forget the excellent Brazilia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offee. The guarana ( made with fruits that are grown i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amazons ). Cane broth ( juice of sugar cane )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oconut milkshake (coconut made from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um and sugar, all this is blenden in a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360360" y="0"/>
            <a:ext cx="10260000" cy="9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t">
            <a:no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imes New Roman"/>
              </a:rPr>
              <a:t>NATIONAL  PRODUC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e can mention the kiw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lamb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imes New Roman"/>
              </a:rPr>
              <a:t>CUSTOM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majority of new-zealanders eat their main meal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vening. The majority of families try to eat  din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ogether several times a wee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00720" y="1260360"/>
            <a:ext cx="1979640" cy="144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780000" y="1800360"/>
            <a:ext cx="18000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-360" y="539280"/>
            <a:ext cx="972036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ixer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oconut water ( coconut water not the milk, is ve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good for hydrating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39640" y="2817720"/>
            <a:ext cx="161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573280" y="2519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634000" y="2340000"/>
            <a:ext cx="2467080" cy="1800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8280360" y="1800360"/>
            <a:ext cx="1260360" cy="1979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452520" y="4680000"/>
            <a:ext cx="2247840" cy="1542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3060720" y="4498920"/>
            <a:ext cx="2160720" cy="1979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5580000" y="4319640"/>
            <a:ext cx="2197080" cy="216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7920000" y="4129200"/>
            <a:ext cx="1800360" cy="2350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179640" y="-360"/>
            <a:ext cx="9899640" cy="65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POPULAR HOLYDAY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opular holidays in Brazil are the most expressiv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nd richest in the world. Amongst the large amount of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holidays they have we have to mention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January, 1st of January, New Year. National holida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t´s  known world wide as a firework show that i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elebrated on the Copacabana Beac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( Rio de Janeiro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480000" y="4859280"/>
            <a:ext cx="306072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-179640" y="-360"/>
            <a:ext cx="9899640" cy="61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n February, Carnival, though it is celebrated in all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ities of Brazil, the most famous is that of Rio of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Janeiro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arch/ April, Holy Week, is celebrated in the majorit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f towns in Brazil. We have to mention the one that i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elebrated in Brejo's city of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the of Go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584520" y="1260360"/>
            <a:ext cx="3075120" cy="180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119640" y="4680000"/>
            <a:ext cx="306072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360" y="539280"/>
            <a:ext cx="1008072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aster Week ( the week after Holy Week), tradi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f the rabbit (that symbolizes fertility) and Easter egg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In June, Folklork Festival of Bumba-Meu-Boi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elebrated in Parintins's city ( the amazon) where vari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local dishes are eaten such a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eese of coalho, roast maize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979640" y="1906560"/>
            <a:ext cx="2519280" cy="1693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659640" y="5040360"/>
            <a:ext cx="270036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anjica, brigadeiro, roast meat and everyth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ccompanied by a good caipirinh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October ( 5 to October 22 )- Oktoberfest i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lumenau ( Holy Catarina ) German culture holida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ith music, dances and a food festival in where a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verage of 500 thousand barrell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f beer are drunk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480000" y="4361040"/>
            <a:ext cx="2519640" cy="1938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-360" y="53928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CONDUCTS IN THE TABLE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 special characteristic is that dishes are put on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able at the same time, except the soup, which is serve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efore the food, and the dessert, which completes i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5640" y="30312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000" spc="-1" strike="noStrike">
                <a:solidFill>
                  <a:srgbClr val="e6e6e6"/>
                </a:solidFill>
                <a:latin typeface="Times New Roman"/>
              </a:rPr>
              <a:t>MOROCCO</a:t>
            </a:r>
            <a:endParaRPr b="1" lang="en-US" sz="60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1619280"/>
            <a:ext cx="972036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rrocan food is one of the richest and most divers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oods in the world part of this is due to the different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ultures that live in Morroco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t is usually homemade by wome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t's principal feature is the use of sweet and sour whic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ames from the Orien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rrocan cooking is very famous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659640" y="4859280"/>
            <a:ext cx="2160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-179640" y="360360"/>
            <a:ext cx="9899640" cy="605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verall thanks to the use of natural produc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rrocan cooking is usually simple and easy to cook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ts main ingredients are usually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Cuscous ( semolina 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Vegetables ( some of the most popular are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ubergine and garlic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rrocan garlic is different to that from Europ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Fruits ( the most important are citru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ruits especially lemons . They also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865920" y="1619280"/>
            <a:ext cx="1952640" cy="1440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659640" y="4859280"/>
            <a:ext cx="270036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-360360" y="0"/>
            <a:ext cx="10260000" cy="64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use a lot of dried fruit, mainly dates and melon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Cereals ( is also a principal ingredient, mainl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used for bread, especially the famous pitta bread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eat ( the most common meat used is lamb or chicken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Fish and seafood ( usually cooked or fied ). To get goo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ishdishes you should go to the coastal area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Spices ( it is a fundamental food and used a lot i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rrocan cooking examples of som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pices are cinnamon, pepper, minta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affron, black pepper, and cummi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099280" y="17928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480000" y="4859280"/>
            <a:ext cx="2700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-360360" y="247680"/>
            <a:ext cx="10080720" cy="6232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rrocans prefer to use aromatic plants and natural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herbs such as cilantro o parsley, basil, mint, onion o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garlic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ea ( is one of the drinks consumed the most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n Morroco. They drink it up to six times a da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Morrocan desserts are well know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principals ingredients are dat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honey, almonds, walnuts, sesame.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8099280" y="1800360"/>
            <a:ext cx="1619280" cy="1979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7920000" y="4680000"/>
            <a:ext cx="1800360" cy="1619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119640" y="3959280"/>
            <a:ext cx="197964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360" y="360000"/>
            <a:ext cx="10080720" cy="702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imes New Roman"/>
              </a:rPr>
              <a:t>TYPICAL  FOOD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Lamb is one of the most popular traditional dish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t is almost always  cooked in the oven togeth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ith potatoes and zapallo ( a type of pumpkin ). It is a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radition to prepare it every Sunda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Fish and chips ( fish with potatoes fried ) is a typical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ood of New Zealand that is serve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rapped in newspape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59640" y="4500720"/>
            <a:ext cx="2519280" cy="197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360" y="360360"/>
            <a:ext cx="9720360" cy="65340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CONDUCTS IN THE TABLE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rrocans tend to eat with three fingers of his right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hand. They eat with their hands. The food is taken in a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low table with people lying on the floor. Women oft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at separately and at different times of the men. Thi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ell seen sipping tea or burp loudl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high after eating. Morrocans tend to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at three meal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659640" y="4500720"/>
            <a:ext cx="287964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-360360" y="0"/>
            <a:ext cx="10080720" cy="65340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UTENSILS AND CONTAINER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One of the most indispensable elements fo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reparation of stews is Taji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Other instrument widely used cla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s the Tangier in which products are cooke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The couscous is made in a cuscuseras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me of the common tools in traditional Morocca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uisine are the Ghorbal, the chtato,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agla ( sort of pan ), the Tanja ( pot 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119640" y="1800360"/>
            <a:ext cx="1979640" cy="1439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8043840" y="96840"/>
            <a:ext cx="1495440" cy="1523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8167680" y="3352680"/>
            <a:ext cx="1440000" cy="1260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6659640" y="5040360"/>
            <a:ext cx="2340000" cy="126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-360360" y="179280"/>
            <a:ext cx="1008072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imes New Roman"/>
              </a:rPr>
              <a:t>TYPICAL DISHE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re are many types of soups such as Harira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erved every day during the month of Ramada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re are very typical dishes like Bissara is a puree of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ean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moroccan dish par excellence is the tablet of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arling.( pastela 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most famous dish is couscou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659640" y="4498920"/>
            <a:ext cx="2700360" cy="1979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740720" y="36036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3419640" y="4140360"/>
            <a:ext cx="2519280" cy="1618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ther typical dishes are: the kebabs, the baddaz,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anjy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mong desserts are chebakia, bahlaw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oncerning the drinks should be noted especially te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Juices abound in the country especially orange jui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lso consumed almond milk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419640" y="900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020000" y="1619280"/>
            <a:ext cx="25192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360" y="179280"/>
            <a:ext cx="9720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FESTIVAL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Feast of lamb. Lasts two days. The festival is a ritual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nimal sacrifice, a lamb, so that later the meat can b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aten. On this day we eat lamb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040360" y="4680000"/>
            <a:ext cx="3600360" cy="1800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079640" y="3419640"/>
            <a:ext cx="2519280" cy="2160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267600" y="2519280"/>
            <a:ext cx="2552400" cy="1790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-360" y="719280"/>
            <a:ext cx="972036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Ramadán. Holy month for muslims. The month of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asting. Men and women should stop eating an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rinking ( fasting ), perfume, sex and smoking from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unrise to sunset. Harira eats, dates, sweet,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160720" y="3419640"/>
            <a:ext cx="2919240" cy="2160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480000" y="4319640"/>
            <a:ext cx="234000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-360" y="179280"/>
            <a:ext cx="9720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000" spc="-1" strike="noStrike">
                <a:solidFill>
                  <a:srgbClr val="e6e6e6"/>
                </a:solidFill>
                <a:latin typeface="Times New Roman"/>
              </a:rPr>
              <a:t>ENGLAND </a:t>
            </a:r>
            <a:endParaRPr b="0" lang="en-US" sz="6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INGREDIENTS OF ENGLISH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COOKING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most common meat is beef and pork usually serv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grilled and with varius sauces and toppings, as w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iscussed before with vegetabl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here fish is concerned, it is very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119640" y="17928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480000" y="5040360"/>
            <a:ext cx="251964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-360" y="317160"/>
            <a:ext cx="972036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ypical in coastal are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almon is the most typical fish either salmon or salm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rou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imes New Roman"/>
              </a:rPr>
              <a:t>TYPICAL DISHES FROM ENGLAND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ne of the most typical dishes is fish and chips whic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eople eat in the stree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nother dish is from Cornwall, the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620040" y="4680000"/>
            <a:ext cx="2560320" cy="1619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633840" y="168912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720360" cy="64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asty. It is a meat pie with vegetables and potato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oast beef and hyorkshire pudding is considered a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national dish.We ca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efine English cuisine a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quality of its roast served wit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ifferent, elaborate sauc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743040" y="561960"/>
            <a:ext cx="2317680" cy="19573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7199280" y="3240000"/>
            <a:ext cx="2395440" cy="1619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680000" y="3240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6659640" y="5040360"/>
            <a:ext cx="2160360" cy="1439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3959280" y="720720"/>
            <a:ext cx="2733480" cy="1666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-360" y="1258560"/>
            <a:ext cx="97203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me examples of desserts are pancakes, fruit pies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ocolate and chees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079640" y="2879640"/>
            <a:ext cx="34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940360" y="1979640"/>
            <a:ext cx="324000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179280"/>
            <a:ext cx="9720360" cy="61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Hangi Maorí, is a local dish of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maorí culture, it consists of putt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meat or fish in the ove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ccompanied by ( sweet potato ) i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baskets and cooking it undergroun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Fried w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hitebait is made wit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scrambled eggs and small fish and tomatoes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80000" y="179280"/>
            <a:ext cx="3060720" cy="251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020000" y="3060720"/>
            <a:ext cx="234000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-360360" y="-360"/>
            <a:ext cx="10080720" cy="899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TRADICIONAL  FESTIVAL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thering Sunday. This festival in the UK is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quivalent of Mother´s Day in other countries. Mother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unday is a time when children pay respect to their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thers. Children often give their Mothers a gift and 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ard.              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imnel Cak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480000" y="4498920"/>
            <a:ext cx="251964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-360" y="360360"/>
            <a:ext cx="972036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Pancake Day. Pancake Day ( also know as Shrov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uesday ) is the last day before the period whic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ristians call Lent. It is traditional on this day to e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ancakes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 pancake is a thin, flat cake, made of batter and fri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n a pa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780000" y="3780000"/>
            <a:ext cx="558000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-179640" y="360000"/>
            <a:ext cx="989964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Good Friday. On this day, Christians remenber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ay when Jesus was crucified on a cross. It is 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raditional to eat warm ” hot cross buns ”  on Goo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riday. Hot Cross Buns with their combination of spicy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weet and fruity flavours have long been an East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raditio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pastry cross on top of the bun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ymbolises and reminds Christian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f the cross that Jesus was killed on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480000" y="4319640"/>
            <a:ext cx="324036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-179280" y="360000"/>
            <a:ext cx="1026000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imes New Roman"/>
              </a:rPr>
              <a:t>CUSTOM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reakfast is the most important meal of the day. It i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usually eaten twice a da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eakfast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- is one of the most abundant of the world, it i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lways served with a lot of  ingredients: tomatoes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ausages, embultidos, bacon, fried or scrambled eggs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ps etc. All this along with coffe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r tea and orange jui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480000" y="4500720"/>
            <a:ext cx="288000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360" y="179280"/>
            <a:ext cx="9720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 u="sng">
                <a:solidFill>
                  <a:srgbClr val="ffffcc"/>
                </a:solidFill>
                <a:uFillTx/>
                <a:latin typeface="Times New Roman"/>
              </a:rPr>
              <a:t>Afternoon snack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- is at tea time ( the tea is served wit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uffins or pastries cookies...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nghish used to eat the cutle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( knife, fork, spoon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or tea ( cups, teapot 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830920" y="900000"/>
            <a:ext cx="2628720" cy="1743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-360360" y="0"/>
            <a:ext cx="1008072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4071960" y="2992320"/>
            <a:ext cx="2228760" cy="1508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6480000" y="4641840"/>
            <a:ext cx="248616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-360" y="53928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0" anchor="t">
            <a:normAutofit/>
          </a:bodyPr>
          <a:p>
            <a:pPr marL="863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Times New Roman"/>
              </a:rPr>
              <a:t>SMILE  ISLAND</a:t>
            </a:r>
            <a:endParaRPr b="0" lang="en-US" sz="6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is island is located in the Pacific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t is an exotic islan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ts inhabitants are ver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hospitable with touris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main ingredients the island ar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uscous, pineapple, coconuts, tea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urkey, rice, kiwi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580000" y="90000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000" spc="-1" strike="noStrike">
                <a:solidFill>
                  <a:srgbClr val="e6e6e6"/>
                </a:solidFill>
                <a:latin typeface="Times New Roman"/>
              </a:rPr>
              <a:t>QUESTIONS</a:t>
            </a:r>
            <a:endParaRPr b="1" lang="en-US" sz="60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1279080"/>
            <a:ext cx="97203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1. What are the national products of New Zealand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2. What are the typical dishes of Morocco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) Harir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) Cuscou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) Pavlov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) Roast beef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60000" y="719280"/>
            <a:ext cx="918036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3. Name two popular Chinese festival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4. What is the most important meal of the day for the British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5. What are the typical products of Brazil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85640" y="539280"/>
            <a:ext cx="874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e6e6e6"/>
                </a:solidFill>
                <a:latin typeface="Times New Roman"/>
              </a:rPr>
              <a:t>PERFORMED BY:</a:t>
            </a:r>
            <a:endParaRPr b="0" lang="en-US" sz="48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imes New Roman"/>
              </a:rPr>
              <a:t>Laura                               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imes New Roman"/>
              </a:rPr>
              <a:t>Rafa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imes New Roman"/>
              </a:rPr>
              <a:t>Alfonso                           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imes New Roman"/>
              </a:rPr>
              <a:t>Jose Antonio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imes New Roman"/>
              </a:rPr>
              <a:t>Leila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s a dessert we can choos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avlova, it's a type of meringu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overed with whipped cream with frui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n top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Lamingtons, a type of spong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ake covered in chocolate, raspber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jam or desicated coconu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99280" y="36036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480000" y="4140360"/>
            <a:ext cx="251964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Anzac biscui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most popular drink is beer,it i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erved in glasses full up to the top an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ithout foam. It is also common to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ind all tupes of fruit jui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600360" y="270000"/>
            <a:ext cx="2793960" cy="2070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199280" y="2160720"/>
            <a:ext cx="216072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POPULAR  HOLIDAY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Day of Waitangi stands out, it is the national day of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New Zealand and is celebrate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n February 6. This day i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elebrated with concers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ctivities for children an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raditional marke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59280" y="2160720"/>
            <a:ext cx="378000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21:42:44Z</dcterms:created>
  <dc:creator/>
  <dc:description/>
  <dc:language>en-US</dc:language>
  <cp:lastModifiedBy/>
  <dcterms:modified xsi:type="dcterms:W3CDTF">2010-11-14T00:24:13Z</dcterms:modified>
  <cp:revision>16</cp:revision>
  <dc:subject/>
  <dc:title/>
</cp:coreProperties>
</file>